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F105-6CDA-49D1-AA88-3EC22669A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F866-E487-4122-A929-D73B94EC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B463-2259-4B9F-9BEA-50A6EB79C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B97E-D620-42C7-A78A-4B717F241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2873-1880-4D9E-AFED-5CD455652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C509-B7AF-424A-9C62-56E088F9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F024-D88A-4A85-A626-E0075B36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B8DF-619D-4C99-A2FC-261ED518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24E5-88A8-445B-83CC-43DDFB2D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5FE3-9FE9-4FB9-BA9B-3D2D5F19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AC84C-5E86-4887-A0FB-91CA71CF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A944-29CB-4628-86DB-1B29B756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54F5-8696-4494-A4D0-E8D58F24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22DE-1B0B-4A3D-BA06-03B75F0D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1562-D38B-4EAC-88CB-E3CA82B9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72E5-6F32-4353-A28D-3C406CACB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11E1-959B-4276-A710-A2C0A6370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CDCB-E79A-4E4F-B8C8-D44729BA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BDA7-4299-4CE2-817F-1A21094F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25FE-036D-426D-AB83-3BC607CD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8B17-D4ED-49B4-AD6E-53C17DAA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3E6D-9DDA-4DB6-B9B3-578F617B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8B15-33B9-4240-A295-D93ADEEB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805B-F6BE-438C-942E-61EC1622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A8AA-65D5-49C8-8015-5D5E3E3A590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5194-4B24-4610-A314-D585CA7423B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Introduce Divisio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nny Cl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100 Hungry A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students work with base ten blocks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pair should start with the </a:t>
            </a:r>
            <a:r>
              <a:rPr b="0" i="1" lang="en-US" sz="2600" spc="-1" strike="noStrike">
                <a:solidFill>
                  <a:srgbClr val="3b812f"/>
                </a:solidFill>
                <a:latin typeface="Arial"/>
              </a:rPr>
              <a:t>fla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10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the ants split into groups, students will trade for </a:t>
            </a:r>
            <a:r>
              <a:rPr b="0" i="1" lang="en-US" sz="2600" spc="-1" strike="noStrike">
                <a:solidFill>
                  <a:srgbClr val="3b812f"/>
                </a:solidFill>
                <a:latin typeface="Arial"/>
              </a:rPr>
              <a:t>long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or tens, and </a:t>
            </a:r>
            <a:r>
              <a:rPr b="0" i="1" lang="en-US" sz="2600" spc="-1" strike="noStrike">
                <a:solidFill>
                  <a:srgbClr val="3b812f"/>
                </a:solidFill>
                <a:latin typeface="Arial"/>
              </a:rPr>
              <a:t>cub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or on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ents will have to </a:t>
            </a:r>
            <a:r>
              <a:rPr b="0" i="1" lang="en-US" sz="2600" spc="-1" strike="noStrike">
                <a:solidFill>
                  <a:srgbClr val="3b812f"/>
                </a:solidFill>
                <a:latin typeface="Arial"/>
              </a:rPr>
              <a:t>divid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ts into </a:t>
            </a:r>
            <a:r>
              <a:rPr b="0" i="1" lang="en-US" sz="2600" spc="-1" strike="noStrike">
                <a:solidFill>
                  <a:srgbClr val="3b812f"/>
                </a:solidFill>
                <a:latin typeface="Arial"/>
              </a:rPr>
              <a:t>equ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3b812f"/>
                </a:solidFill>
                <a:latin typeface="Arial"/>
              </a:rPr>
              <a:t>group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fter making some </a:t>
            </a:r>
            <a:r>
              <a:rPr b="0" i="1" lang="en-US" sz="2600" spc="-1" strike="noStrike">
                <a:solidFill>
                  <a:srgbClr val="3b812f"/>
                </a:solidFill>
                <a:latin typeface="Arial"/>
              </a:rPr>
              <a:t>trad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 student pair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cov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ow to make the trades and the groups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necessary direct them to see what other groups have done with their block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or a challenge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ite students to explain a different way the ants could line 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llustrate and write fact families for the lines the ants ma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e the pair rewrite the story using a template and a different number of ants – include illustr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9T17:25:10Z</dcterms:created>
  <dc:creator> </dc:creator>
  <dc:description/>
  <dc:language>en-US</dc:language>
  <cp:lastModifiedBy> </cp:lastModifiedBy>
  <dcterms:modified xsi:type="dcterms:W3CDTF">2008-04-29T17:27:49Z</dcterms:modified>
  <cp:revision>2</cp:revision>
  <dc:subject/>
  <dc:title>Introduce Division</dc:title>
</cp:coreProperties>
</file>